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4C7-B1E4-4929-AC12-8B8593D9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FE2D-ED20-4AB9-8380-7C718E26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E79-E5B9-4763-9247-D87B6B5D8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E74-D51A-429B-A6E6-141FF5BB0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526-A23D-455B-BF2D-158837DA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A83-3D52-4739-BC99-829BFE98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8B3-325B-4AE9-8EDC-371B952D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8146-0E0A-4F5C-9A60-AE49DA40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971E-9BB9-41F9-9FD4-1C3FC0FF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AA2-1D10-4019-B8A9-67FDB60B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89DD-3ABE-4BE7-A1B1-6F6EA409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292-8424-4220-B4C0-1DB90258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CA33-D754-4D2E-8442-C3245B5C84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4"/>
          <p:cNvSpPr/>
          <p:nvPr/>
        </p:nvSpPr>
        <p:spPr>
          <a:xfrm>
            <a:off x="0" y="9296280"/>
            <a:ext cx="7238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905120" y="22860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movie in English 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Centered at the top of pap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eatly and colo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600200" y="3124080"/>
            <a:ext cx="426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on in th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iddle 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must be something having to do with movie or title.  This must be i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lor, nea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ppeal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 This is your advertisement.  You want to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ti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viewer to see the movi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0" y="6248520"/>
            <a:ext cx="685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h will ins Kino gehen.  Ich sehe gern _____________.   Ich will _____________ sehen.   Der Film spielt in _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____________ spielt am _____________ , ____________________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m ___________________, _____________________  und 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0" y="731520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of movi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on what day of the week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date written out in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written in numbers ___.___and then words      time written in numbers and then word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written in numbers and then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990720" y="52578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this toward the bottom of the paper. You must spell out all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mbers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11"/>
          <p:cNvCxnSpPr/>
          <p:nvPr/>
        </p:nvCxnSpPr>
        <p:spPr>
          <a:xfrm flipH="1">
            <a:off x="2971080" y="5791320"/>
            <a:ext cx="15300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TextBox 8"/>
          <p:cNvSpPr/>
          <p:nvPr/>
        </p:nvSpPr>
        <p:spPr>
          <a:xfrm>
            <a:off x="3962520" y="662940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f th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10320" y="655308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of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3625920" y="632448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re (auf deut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20:57:09Z</dcterms:created>
  <dc:creator>ahart</dc:creator>
  <dc:description/>
  <dc:language>en-US</dc:language>
  <cp:lastModifiedBy>tmsadmin</cp:lastModifiedBy>
  <dcterms:modified xsi:type="dcterms:W3CDTF">2013-11-15T12:34:22Z</dcterms:modified>
  <cp:revision>9</cp:revision>
  <dc:subject/>
  <dc:title>Slide 1</dc:title>
</cp:coreProperties>
</file>